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F79-94DF-44FD-BE8D-3BDF278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D82-5246-4BE5-BC32-940E07A6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BDE20-363A-45B5-8BD4-5966942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CF43E-B2D7-4C55-BD58-01CC5FC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21AA6-C01C-47EF-BD96-409E77A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9B577-7374-4151-B604-1BE32B7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C5DEF-5769-45DC-B50C-32FD9BA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C4B9F-4035-470B-A196-871D573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CD749-0AA0-4471-AA47-F405D831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1D037-39B3-4367-BD50-E8259DFC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C1021-9D47-4D60-88BA-332BF26A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2D8-03B5-487D-8D0D-0D66E9CE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4F0-CC97-447E-A40E-E1A031C4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F534-7C3C-44E7-8099-C77DFCCD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5DF1-C6D6-4AE3-88E5-FD63841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537A-68A9-449F-9CDD-0106E5EE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3A03C-C314-43E7-8E8B-D237E6F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2DC3-2D9D-47AA-9A60-3AEACF1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44C84-AD0B-45FA-B43E-5417EAB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3963-9401-46BC-8E6A-04F4EAB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814-28A9-4D67-9BC6-01CD6A8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FEF72-4688-477D-864E-C561941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F7D0-93C3-489E-A6AB-BF05F823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47714-62F7-416B-A75B-8A7E069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EE18-4F70-4644-80DC-6DF5EBD5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6733-F4CD-4D06-B149-C4F09778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4206-CEF0-4698-BE82-8BE0388A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53E2-4F73-44A4-A9A9-A6952EE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AE52-92DA-4D56-8A90-E98A1E6D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ED37-EAE4-4C07-9089-17D8A9C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C4F2-C65E-48BF-A560-3A07D43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576-F87D-49BD-AB01-1AA43350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1EBB-E7D4-4065-A7FB-7C5BDE2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4A68-1FD5-4C4E-8836-32AADD1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EEC8-6A02-43BA-B0EB-7A176A7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1739-03B6-4156-AB35-EEF816A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E971-3DCB-4184-9163-D8576071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2A0E-F75A-48F6-8714-7CF9101F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A756-88B4-47DE-88D8-BAC49ECD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0597C-DBE4-4EBE-ACED-B52EE6B3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2DE5B-9A3E-49EA-B7CD-BF62695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ABF81-5752-4A24-B613-14981BC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971-89EB-4B01-888D-22BB516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29ECF-8B5F-484A-8B00-244F434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4D3AF-8464-4431-9548-C633C5C2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66B42-9D1D-4A54-B2A5-B185C65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10EE5-5CC8-4353-BCA7-7645545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96271-6A72-46F2-AD3A-545C39C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42FA5-2EB7-4565-9EC4-313EB30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3AA4A-9604-475C-9400-246BF03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C1053-CA2D-41EE-A4E8-F365F7E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D7A1F-DE33-4505-B1AB-84512CB1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FF2B-9B84-4505-8051-7897098A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468-F5FD-4B7B-A4A4-BD068B25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DF0E-81D8-4776-AF3F-EB6FFEE1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99F2-7327-4FBC-B60D-F682DEB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2A54-E0A0-4B81-B35D-0B0FEC4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0B6D-42C8-4721-97E4-707B85C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E9755-CEFB-4B3C-9A38-860B83C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7563-8BCD-4C5B-AD8B-8925F37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7F96-A84E-4B4C-9625-C037AD1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3FBCA-179B-4792-8CDD-522FEB8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07AD-EDBB-425E-95C6-B72B4D5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5E95-2921-454B-8051-918B1E55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74A-E87D-4128-AAE7-E458C894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7009-AE6E-409C-BF13-AC133A25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93D6-0B48-454B-93D6-D95C36A5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B6EF-3F2D-4354-9725-0F8547D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8112-F118-41DC-BBA6-DB9AEED1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81D29-D4CB-4476-94E8-F8A88A3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79F3-0AA0-481E-AE28-EE774B1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ABE2D-4E3D-404D-B4E2-3D967584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C7DB-C477-4092-85CD-271A764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E5673-5820-4199-B5F2-D702C6A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9347-06D3-42B2-9A56-8B961EB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C0C-AD33-409F-941E-4799DDE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4D02-F380-436F-8AF1-5F3811C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24D71-3EB4-4E69-9922-2FE761D7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B908-315E-462F-9F60-6B7CBCD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BE7B-2787-4CFE-B4F9-3E3B755F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5E36-D0DA-4255-82DB-C571D32A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DE6D-05EA-4703-B3B6-902BEB62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D7FF-2F99-437F-A0CB-2E77850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3EC8-76E4-493D-AFD6-32E37B3F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5C2C-6209-4C6D-99AC-4CDC8B03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BE4D7-4B8B-4246-9524-87AB185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105-61B8-4C66-8D32-8541590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DCB8-DFE1-4527-85C5-6E3BBC6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B107-81BE-4482-BDAF-DEC1D15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8AFF-B8E8-48D2-BF5E-F633677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1352-15B6-4879-A4EB-4EC0BFB3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F466-4C01-49F5-B60F-0130B8E9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86792-91CC-4E17-849A-31847424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96A65-04AF-4A7E-88F5-87E35BE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6237FA-CF08-42A1-9565-AC7AEF8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0964A5-D0A6-4D37-9C4A-AD84B6FA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832DE-7E67-4377-A346-31EA7D6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B69-97A9-4673-BCF1-FFE4327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D4005-C28D-4731-9028-D523F1AA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19BBE-AD53-465F-889D-96D8D38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18D65-1ED5-4DFD-8395-4E89116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24C7D-DBAE-4198-872E-CD81565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5804D-D660-43FF-B495-DD54568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CC636-3918-4D5C-849C-AF3F854B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B0C4C-3510-496D-93EA-36FC7428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86765-4FA3-490C-B738-CFCA01C2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8DC55-2ED3-472B-8907-256B141C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3E559-8618-4019-A09A-0F62453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1C0-51C1-4D0A-830D-E4079661846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FFC-5AE8-44C8-AA47-F0ED94DAE9D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1E8-E427-4C89-BA15-8C28DA0480E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0DA-4355-4318-ABF2-465C12FE7FD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E06A-151F-41AC-ACA3-FCD672992B1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4AE-47D8-4735-9DC3-AE8E92DB800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255-D55C-4665-BD4D-6694954AF8C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4761-86FD-4DB2-8B33-3F18B6854D1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C9B6-1783-454B-9BD6-A0CA177DBC8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332920" cy="21765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42960" y="2819520"/>
            <a:ext cx="80503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mbria"/>
              </a:rPr>
              <a:t>В  КАКОМ  СЛОВЕ  ДОПУЩЕНА  ОШИБКА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285920" y="35719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  ЁЖ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1285920" y="435780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  МАЛЫ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285920" y="51436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  СД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5072040" y="36432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ПЛОЩ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5072040" y="43578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5.  ВОРЧУН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5072040" y="5143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6.  УЧА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5000760" y="371484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ПЛОЩ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332920" cy="21765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42960" y="2819520"/>
            <a:ext cx="80503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mbria"/>
              </a:rPr>
              <a:t>В  КАКОМ  СЛОВЕ  ДОПУЩЕНА  ОШИБКА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1285920" y="357192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  КАЧАЕ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1285920" y="43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  УТАЩ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1285920" y="51436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  ПУШИНКА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72040" y="36432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ПОЩАД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>
            <a:off x="5072040" y="43578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5.   ЖЫЛЬЦ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5072040" y="5143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6.  МОЛЧУ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4967640" y="435780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5.   ЖИЛЬЦ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332920" cy="21765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42960" y="2819520"/>
            <a:ext cx="80503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mbria"/>
              </a:rPr>
              <a:t>В  КАКОМ  СЛОВЕ  ДОПУЩЕНА  ОШИБКА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285920" y="35719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  ЧУДИЩ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285920" y="43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  ПИЩ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1285920" y="5143680"/>
            <a:ext cx="27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  ОЩЮ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5072040" y="364320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 СНЕЖИН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5072040" y="4357800"/>
            <a:ext cx="285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5.  ШИПОВНИК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5072040" y="5143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6.  ЗАД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9"/>
          <p:cNvSpPr/>
          <p:nvPr/>
        </p:nvSpPr>
        <p:spPr>
          <a:xfrm>
            <a:off x="1236240" y="514368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  ОЩУ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120160" cy="2054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42960" y="2819520"/>
            <a:ext cx="80503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mbria"/>
              </a:rPr>
              <a:t>В  КАКОМ  СЛОВЕ  ДОПУЩЕНА  ОШИБКА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1285920" y="357192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  СТЕЛЬ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1285920" y="435780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  УДАЧНЫ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1285920" y="51436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  МОЩ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5072040" y="3643200"/>
            <a:ext cx="31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 ШУТОЧ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5072040" y="4357800"/>
            <a:ext cx="31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5.   БРУСНИЧ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5072040" y="5143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6.  БАБОЧ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9"/>
          <p:cNvSpPr/>
          <p:nvPr/>
        </p:nvSpPr>
        <p:spPr>
          <a:xfrm>
            <a:off x="5039640" y="36432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  ШУТ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4:51:57Z</dcterms:created>
  <dc:creator>Игорь Саченко</dc:creator>
  <dc:description/>
  <dc:language>en-US</dc:language>
  <cp:lastModifiedBy>Успехов тебе</cp:lastModifiedBy>
  <dcterms:modified xsi:type="dcterms:W3CDTF">2009-01-12T13:24:27Z</dcterms:modified>
  <cp:revision>8</cp:revision>
  <dc:subject/>
  <dc:title>Сочетания     ЖИ-ШИ,                                          ЧА-ЩА,                                          ЧУ-ЩУ.</dc:title>
</cp:coreProperties>
</file>